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133F-3AC7-415F-8E46-9AFF8A87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7D66-0F00-48CB-B8B7-52A9DB8F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55EB-002A-4D6D-91DB-40F9CB45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06DC-1E3F-4C8C-95B6-D6AA9E95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842F-1A3A-4C14-A302-1B6E4D0A0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7801-B164-455F-9051-FB6B0312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C945-5235-4108-B146-0ACF6199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D7CE-DFE4-4E6C-B794-8F4ABEB3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12C0-6969-4FE3-80FC-F8D4C8A4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998D-DC49-46FD-AE71-4238AF9E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0116-8658-4BF6-BBC3-5A29457F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9876-87DB-44A5-959D-44D35D76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BD60-D7CC-4A6A-A9F0-D81B6344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FC13-0F0E-4751-B299-C3FFDE8C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7AC4-4319-4B2A-9957-09D69564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2E2C-8328-4943-9B9A-F79EB079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8F40-EDB0-48C0-91B7-0F86E5C7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846F-27AB-418B-9CF0-9FF03C5C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D8D9-358C-4619-8170-B4AC9261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B00E-7B94-41AD-887B-72423A04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65A0-C918-433E-AF66-78A0136D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15F7-27C0-45EE-932A-3A72FF06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3EE6-A41B-4692-AF93-0360BC97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DA97-D495-4960-9DC8-9E92E0E5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66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5F46-9593-4F52-87F8-57AFC1F005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66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2C56-0C70-47C5-8000-0EAEAF3949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00ff00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66680" y="762120"/>
            <a:ext cx="7477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tálogo De Ropa Para Ninos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057400" y="6210360"/>
            <a:ext cx="502920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By: Cadey Capistr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rot="20979000">
            <a:off x="2057040" y="2133720"/>
            <a:ext cx="1800360" cy="2543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 rot="348600">
            <a:off x="3809520" y="1981080"/>
            <a:ext cx="1895760" cy="24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295280" y="762120"/>
            <a:ext cx="5791320" cy="885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cap="rnd" w="9360">
                  <a:solidFill>
                    <a:srgbClr val="00ff00"/>
                  </a:solidFill>
                  <a:custDash>
                    <a:ds d="100000" sp="1000"/>
                  </a:custDash>
                  <a:miter/>
                </a:ln>
                <a:solidFill>
                  <a:srgbClr val="00ffff"/>
                </a:solidFill>
                <a:latin typeface="Arial Black"/>
              </a:rPr>
              <a:t>El Invierno</a:t>
            </a:r>
            <a:endParaRPr b="0" lang="en-US" sz="9600" spc="1" strike="noStrike">
              <a:ln cap="rnd" w="9360">
                <a:solidFill>
                  <a:srgbClr val="00ff00"/>
                </a:solidFill>
                <a:custDash>
                  <a:ds d="100000" sp="1000"/>
                </a:custDash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 rot="334200">
            <a:off x="6477120" y="2057040"/>
            <a:ext cx="2317680" cy="2971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422440" y="3084480"/>
            <a:ext cx="306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03480" y="3008160"/>
            <a:ext cx="413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1360" y="274320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Aar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ón Lleva la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  <a:ea typeface="Arial"/>
              </a:rPr>
              <a:t>Chaqueta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 y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  <a:ea typeface="Arial"/>
              </a:rPr>
              <a:t>los blue jeans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 y </a:t>
            </a:r>
            <a:r>
              <a:rPr b="0" lang="es-ES" sz="1800" spc="-1" strike="noStrike" u="sng">
                <a:solidFill>
                  <a:srgbClr val="3333ff"/>
                </a:solidFill>
                <a:uFillTx/>
                <a:latin typeface="Arial"/>
              </a:rPr>
              <a:t>zapatillas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280" y="4876920"/>
            <a:ext cx="1413000" cy="1811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fcf84a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676520" y="838080"/>
            <a:ext cx="5638680" cy="1495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El Verano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 rot="21091800">
            <a:off x="228600" y="2209320"/>
            <a:ext cx="2192400" cy="3276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327560" y="3429000"/>
            <a:ext cx="397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25000">
            <a:off x="2733480" y="3962160"/>
            <a:ext cx="64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DALINA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lleva un vestido blanco y una flor en el p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655040" y="152280"/>
            <a:ext cx="1488960" cy="1486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67ff"/>
            </a:gs>
            <a:gs pos="50000">
              <a:srgbClr val="9933ff"/>
            </a:gs>
            <a:gs pos="100000">
              <a:srgbClr val="676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685800"/>
            <a:ext cx="7277040" cy="1438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</a:rPr>
              <a:t>La primavera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 Black"/>
              <a:ea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5029200"/>
            <a:ext cx="1646280" cy="1828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 rot="280200">
            <a:off x="5638320" y="1981080"/>
            <a:ext cx="3229200" cy="2764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08040" y="3048120"/>
            <a:ext cx="3444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8920" y="2285280"/>
            <a:ext cx="47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ALEJANDRA</a:t>
            </a: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 lleva un </a:t>
            </a:r>
            <a:r>
              <a:rPr b="0" lang="en-US" sz="1800" spc="-1" strike="noStrike" u="sng">
                <a:solidFill>
                  <a:srgbClr val="ff66ff"/>
                </a:solidFill>
                <a:uFillTx/>
                <a:latin typeface="Arial"/>
              </a:rPr>
              <a:t>la bata</a:t>
            </a: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 largo y zap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7120" y="259092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84a"/>
                </a:solidFill>
                <a:latin typeface="Arial"/>
              </a:rPr>
              <a:t>CATALINA</a:t>
            </a:r>
            <a:r>
              <a:rPr b="0" lang="en-US" sz="1800" spc="-1" strike="noStrike">
                <a:solidFill>
                  <a:srgbClr val="fcf84a"/>
                </a:solidFill>
                <a:latin typeface="Arial"/>
              </a:rPr>
              <a:t>  lleva un vestido corto y </a:t>
            </a:r>
            <a:r>
              <a:rPr b="0" lang="en-US" sz="1800" spc="-1" strike="noStrike" u="sng">
                <a:solidFill>
                  <a:srgbClr val="fcf84a"/>
                </a:solidFill>
                <a:uFillTx/>
                <a:latin typeface="Arial"/>
              </a:rPr>
              <a:t>zap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3440" y="289548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GABRIELA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Arial"/>
              </a:rPr>
              <a:t>la blusa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 y una falda y zap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6600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52480" y="762120"/>
            <a:ext cx="5686560" cy="1724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cap="rnd" w="9360">
                  <a:solidFill>
                    <a:srgbClr val="ffcc99"/>
                  </a:solidFill>
                  <a:custDash>
                    <a:ds d="100000" sp="1000"/>
                  </a:custDash>
                  <a:miter/>
                </a:ln>
                <a:solidFill>
                  <a:srgbClr val="ffcc99"/>
                </a:solidFill>
                <a:latin typeface="Arial Black"/>
              </a:rPr>
              <a:t>El Otono</a:t>
            </a:r>
            <a:endParaRPr b="0" lang="en-US" sz="9600" spc="1" strike="noStrike">
              <a:ln cap="rnd" w="9360">
                <a:solidFill>
                  <a:srgbClr val="ffcc99"/>
                </a:solidFill>
                <a:custDash>
                  <a:ds d="100000" sp="1000"/>
                </a:custDash>
                <a:miter/>
              </a:ln>
              <a:solidFill>
                <a:srgbClr val="ffcc99"/>
              </a:solidFill>
              <a:latin typeface="Arial Black"/>
              <a:ea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 rot="21213000">
            <a:off x="5790960" y="2057400"/>
            <a:ext cx="2608200" cy="2714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5053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IZABELLE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lleva </a:t>
            </a:r>
            <a:r>
              <a:rPr b="0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camisa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y </a:t>
            </a:r>
            <a:r>
              <a:rPr b="0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una falda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y pantlones largos y zapatillas y </a:t>
            </a:r>
            <a:r>
              <a:rPr b="0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la camis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 rot="635400">
            <a:off x="152280" y="228600"/>
            <a:ext cx="997200" cy="1104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00ff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523880" y="685800"/>
            <a:ext cx="6201000" cy="1438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Accesorios</a:t>
            </a:r>
            <a:endParaRPr b="0" lang="en-US" sz="8000" spc="1" strike="noStrike">
              <a:ln w="9360">
                <a:solidFill>
                  <a:srgbClr val="ff00ff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1452600" cy="1452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88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Los 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Ar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86000" y="1905120"/>
            <a:ext cx="1990800" cy="1457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46440" y="342900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El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572000" y="1676520"/>
            <a:ext cx="1176480" cy="1676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650120" y="342900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El Bo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057400" cy="1469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251400" y="34290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La Buf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304920" y="4114800"/>
            <a:ext cx="1269720" cy="1733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27880" y="576576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Los Calcet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2057400" y="4267080"/>
            <a:ext cx="1523880" cy="1524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058120" y="594360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El Cintur</a:t>
            </a:r>
            <a:r>
              <a:rPr b="0" lang="el-GR" sz="2000" spc="-1" strike="noStrike">
                <a:solidFill>
                  <a:srgbClr val="3333ff"/>
                </a:solidFill>
                <a:latin typeface="Arial"/>
                <a:ea typeface="Arial"/>
              </a:rPr>
              <a:t>ό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4038480" y="4724280"/>
            <a:ext cx="1981440" cy="1032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037400" y="586728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Las Gafas De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6400800" y="4495680"/>
            <a:ext cx="1752480" cy="1203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323760" y="579132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Los espeju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00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752480" y="762120"/>
            <a:ext cx="5686560" cy="1085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9933ff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Arial Black"/>
              </a:rPr>
              <a:t>Ropa Adicional</a:t>
            </a:r>
            <a:endParaRPr b="0" lang="en-US" sz="1800" spc="1" strike="noStrike">
              <a:ln cap="rnd" w="9360">
                <a:solidFill>
                  <a:srgbClr val="9933ff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648240" y="2195640"/>
            <a:ext cx="1847520" cy="2466720"/>
            <a:chOff x="3648240" y="2195640"/>
            <a:chExt cx="1847520" cy="2466720"/>
          </a:xfrm>
        </p:grpSpPr>
        <p:sp>
          <p:nvSpPr>
            <p:cNvPr id="141" name=""/>
            <p:cNvSpPr txBox="1"/>
            <p:nvPr/>
          </p:nvSpPr>
          <p:spPr>
            <a:xfrm>
              <a:off x="3648240" y="2195640"/>
              <a:ext cx="1847520" cy="246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 rot="21280800">
            <a:off x="228240" y="1371240"/>
            <a:ext cx="1771560" cy="2362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36440" y="399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000" y="388620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El Traje De Ba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ñ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83600">
            <a:off x="2971440" y="1219320"/>
            <a:ext cx="1541520" cy="25146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819520" y="380988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La Bata De Ba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  <a:ea typeface="Arial"/>
              </a:rPr>
              <a:t>ñ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86760" y="380988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Arial"/>
              </a:rPr>
              <a:t>los pij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 rot="192000">
            <a:off x="5333760" y="1142640"/>
            <a:ext cx="1773000" cy="2724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 rot="21406800">
            <a:off x="380880" y="4343040"/>
            <a:ext cx="1673280" cy="2514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 rot="412800">
            <a:off x="2895120" y="449532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 rot="21352800">
            <a:off x="5638320" y="4266720"/>
            <a:ext cx="1952640" cy="2343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66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 rot="21368400">
            <a:off x="685800" y="2286000"/>
            <a:ext cx="76201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tálogo De Ropa Para Ninos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4:47:57Z</dcterms:created>
  <dc:creator>capistrancad</dc:creator>
  <dc:description/>
  <dc:language>en-US</dc:language>
  <cp:lastModifiedBy>capistrancad</cp:lastModifiedBy>
  <dcterms:modified xsi:type="dcterms:W3CDTF">2011-12-14T16:40:52Z</dcterms:modified>
  <cp:revision>8</cp:revision>
  <dc:subject/>
  <dc:title> </dc:title>
</cp:coreProperties>
</file>